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4.gif" ContentType="image/gif"/>
  <Override PartName="/ppt/media/image27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22.jpeg" ContentType="image/jpeg"/>
  <Override PartName="/ppt/media/image9.png" ContentType="image/png"/>
  <Override PartName="/ppt/media/image26.jpeg" ContentType="image/jpeg"/>
  <Override PartName="/ppt/media/image7.gif" ContentType="image/gif"/>
  <Override PartName="/ppt/media/image2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3.gif" ContentType="image/gif"/>
  <Override PartName="/ppt/media/image12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17.gif" ContentType="image/gif"/>
  <Override PartName="/ppt/media/image6.gif" ContentType="image/gif"/>
  <Override PartName="/ppt/media/image21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940-AA8A-4BF2-B09B-905C00A2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D56-9077-416B-8F4B-1A1CE177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837-5B3F-45C3-B518-AFF7ECE4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704-B63D-46E8-BB44-6880AD8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4F9-B356-4E29-BFF9-85E5DD2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637-9237-4809-8EA4-B9A9FD6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1C7-FE4B-4CAA-85C6-0B40A320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276-3FAD-44D9-9C9D-6F8CBC1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9C6-71F1-456D-8BD9-4C7F8DF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86E-341E-491F-A941-FE6FAE4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875-5A52-4187-B852-EAF3998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8FA-93B0-47CD-B247-B824086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5A0-0E4D-405D-AFAB-3335311B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egtime.ru/img/REG127190084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009.radikal.ru/0805/4f/c8bb07fd881c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sian.com.ua/map/map_fiz_small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zvezdasport.ru/m/news/2008/05/07/olimpiyskiy-ogon-pod/psrc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orangesmile.com/ru/foto/oceans/pasific-ocean-map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cirota.ru/forum/images/24/24819.jpe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.foto.radikal.ru/0703/8c4b0abe4d6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anetolog.ru/maps/world/big/africa-map.gi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360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" y="0"/>
            <a:ext cx="70866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Наш  дом -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планета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ЗЕМЛ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АНТАРКТИДА – это сам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8 из 53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752480"/>
            <a:ext cx="431820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ВСТРАЛИЯ – это сам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АЛЕНЬ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Картинка 3 из 29286">
            <a:hlinkClick r:id="rId2"/>
          </p:cNvPr>
          <p:cNvPicPr/>
          <p:nvPr/>
        </p:nvPicPr>
        <p:blipFill>
          <a:blip r:embed="rId3"/>
          <a:srcRect l="9006" t="2172" r="11445" b="0"/>
          <a:stretch/>
        </p:blipFill>
        <p:spPr>
          <a:xfrm>
            <a:off x="228600" y="182880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ЕВРАЗИЯ – это сам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67 из 105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320" y="1905120"/>
            <a:ext cx="433692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ЭВЕРЕСТ – это сам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ЫСОКАЯ ТОЧКА ЗЕМ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Картинка 13 из 77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057400"/>
            <a:ext cx="41785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ИХИЙ ОКЕАН – сам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БОЛЬШОЙ ПО ПЛОЩАД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ка 3 из 99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295280"/>
            <a:ext cx="3865680" cy="288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31 из 99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4343400"/>
            <a:ext cx="388620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2666880"/>
            <a:ext cx="609480" cy="609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724280" y="2286000"/>
            <a:ext cx="32004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14400" y="2286000"/>
            <a:ext cx="3200400" cy="11430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 rot="19800000">
            <a:off x="2952360" y="25200"/>
            <a:ext cx="1219320" cy="2895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3886200" y="3276720"/>
            <a:ext cx="990720" cy="2743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 rot="1800000">
            <a:off x="4723920" y="0"/>
            <a:ext cx="1219320" cy="289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 rot="19200000">
            <a:off x="5029200" y="2819520"/>
            <a:ext cx="990720" cy="2743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7" action="ppaction://hlinksldjump"/>
          </p:cNvPr>
          <p:cNvSpPr/>
          <p:nvPr/>
        </p:nvSpPr>
        <p:spPr>
          <a:xfrm rot="2400000">
            <a:off x="2819160" y="2819160"/>
            <a:ext cx="914400" cy="2743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8" action="ppaction://hlinksldjump"/>
          </p:cNvPr>
          <p:cNvSpPr/>
          <p:nvPr/>
        </p:nvSpPr>
        <p:spPr>
          <a:xfrm>
            <a:off x="228600" y="5638680"/>
            <a:ext cx="1066680" cy="914400"/>
          </a:xfrm>
          <a:prstGeom prst="smileyFace">
            <a:avLst>
              <a:gd name="adj" fmla="val 9282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75760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 rot="19800000">
            <a:off x="1661760" y="1957680"/>
            <a:ext cx="581976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Самый твёрдый минерал на Зем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 rot="19800000">
            <a:off x="1661760" y="1500480"/>
            <a:ext cx="581976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очень нужен детво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на дорожках во дв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на строй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на п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в стек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плавлен да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 rot="19800000">
            <a:off x="1661760" y="1500480"/>
            <a:ext cx="5819760" cy="320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Маслянистая жидкость тёмно-бурого цвета, с резким запах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 rot="19800000">
            <a:off x="1661760" y="1500480"/>
            <a:ext cx="5819760" cy="320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вёрды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но хрупкий чёрный камен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асто с блес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мен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873600">
            <a:off x="2765520" y="811080"/>
            <a:ext cx="6127560" cy="2922840"/>
          </a:xfrm>
          <a:prstGeom prst="cloudCallout">
            <a:avLst>
              <a:gd name="adj1" fmla="val -33944"/>
              <a:gd name="adj2" fmla="val 10599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Эй, товарищ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е лен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Отвечать потороп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689280"/>
            <a:ext cx="2305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 rot="19800000">
            <a:off x="1661760" y="1500480"/>
            <a:ext cx="5819760" cy="320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 воде родитс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А воды боит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19800000">
            <a:off x="1661760" y="1500480"/>
            <a:ext cx="5819760" cy="3200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сли встретишь на дорог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 увязнут сильно ног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 если сдел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иску, ваз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на понадобится с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 rot="19800000">
            <a:off x="1661760" y="1576800"/>
            <a:ext cx="5819760" cy="320040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Порода горного цар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Из шпата, слюды и квар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667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304920" y="228600"/>
            <a:ext cx="106668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699000" cy="3236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54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447920"/>
            <a:ext cx="2057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58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2286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х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411480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89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4100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14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8600"/>
            <a:ext cx="62485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1523880"/>
            <a:ext cx="624852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743200"/>
            <a:ext cx="62485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038480"/>
            <a:ext cx="624852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5334120"/>
            <a:ext cx="62485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228600"/>
            <a:ext cx="6248520" cy="10666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ысота водопада 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743200"/>
            <a:ext cx="6248520" cy="10666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амая большая пусты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038480"/>
            <a:ext cx="6248520" cy="10670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ая низкая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°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5334120"/>
            <a:ext cx="6248520" cy="10666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ысота Антаркти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ад уровнем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523880"/>
            <a:ext cx="6248520" cy="10670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ая высокая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Картинка 13 из 172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295280"/>
            <a:ext cx="6410160" cy="5397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Картинка 33 из 9269"/>
          <p:cNvPicPr/>
          <p:nvPr/>
        </p:nvPicPr>
        <p:blipFill>
          <a:blip r:embed="rId2"/>
          <a:stretch/>
        </p:blipFill>
        <p:spPr>
          <a:xfrm>
            <a:off x="31680" y="19080"/>
            <a:ext cx="9112320" cy="6838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20 из 9269"/>
          <p:cNvPicPr/>
          <p:nvPr/>
        </p:nvPicPr>
        <p:blipFill>
          <a:blip r:embed="rId3"/>
          <a:stretch/>
        </p:blipFill>
        <p:spPr>
          <a:xfrm>
            <a:off x="0" y="3324240"/>
            <a:ext cx="5076720" cy="3533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Картинка 10 из 9602"/>
          <p:cNvPicPr/>
          <p:nvPr/>
        </p:nvPicPr>
        <p:blipFill>
          <a:blip r:embed="rId2"/>
          <a:stretch/>
        </p:blipFill>
        <p:spPr>
          <a:xfrm>
            <a:off x="0" y="3260880"/>
            <a:ext cx="4484520" cy="3597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артинка 29 из 9602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3238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Картинка 42 из 9602"/>
          <p:cNvPicPr/>
          <p:nvPr/>
        </p:nvPicPr>
        <p:blipFill>
          <a:blip r:embed="rId4"/>
          <a:stretch/>
        </p:blipFill>
        <p:spPr>
          <a:xfrm>
            <a:off x="4346640" y="326088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52 из 9602"/>
          <p:cNvPicPr/>
          <p:nvPr/>
        </p:nvPicPr>
        <p:blipFill>
          <a:blip r:embed="rId5"/>
          <a:stretch/>
        </p:blipFill>
        <p:spPr>
          <a:xfrm>
            <a:off x="0" y="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2133720"/>
            <a:ext cx="8610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777080" y="4341960"/>
            <a:ext cx="1366920" cy="2516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18280" y="0"/>
            <a:ext cx="2025720" cy="180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 rot="900000">
            <a:off x="3733560" y="4800600"/>
            <a:ext cx="1714320" cy="1333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3637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52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МЕРИДИА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ПАРАЛЛ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ЭКВА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"/>
            <a:ext cx="7162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ри    коман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J0213500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164124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J0213501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163368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J0213502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1641600" cy="180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-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0" y="1942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0" y="43790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" y="68162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4479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276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105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1219320"/>
            <a:ext cx="7162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657760" cy="360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Что такое?  Кто такой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0" y="1942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20" y="43790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" y="68162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867280"/>
            <a:ext cx="2819520" cy="60984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44792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58128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й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79132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80060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вел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971800"/>
            <a:ext cx="266724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.Колу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48640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514600"/>
            <a:ext cx="403848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тешестве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219320"/>
            <a:ext cx="4419720" cy="12952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ор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рения относи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962520"/>
            <a:ext cx="281916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724280"/>
            <a:ext cx="2819160" cy="60984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200400"/>
            <a:ext cx="2819520" cy="12952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Что такое?  Кто такой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0" y="1942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0" y="43790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" y="68162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1447920"/>
            <a:ext cx="281916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44792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28600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й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01992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95288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вел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96252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.Колу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124080"/>
            <a:ext cx="2666880" cy="6858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3962520"/>
            <a:ext cx="403848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тешестве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648320"/>
            <a:ext cx="4419360" cy="12952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ор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рения относи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362320"/>
            <a:ext cx="281916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200400"/>
            <a:ext cx="281916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6019920"/>
            <a:ext cx="3733920" cy="609480"/>
          </a:xfrm>
          <a:prstGeom prst="ellipse">
            <a:avLst/>
          </a:prstGeom>
          <a:solidFill>
            <a:srgbClr val="c1f9c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ка о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752480"/>
            <a:ext cx="167652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666880"/>
            <a:ext cx="167652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505320"/>
            <a:ext cx="167652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267080"/>
            <a:ext cx="114300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6324480"/>
            <a:ext cx="129528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w="63360">
            <a:solidFill>
              <a:srgbClr val="00a8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752480"/>
            <a:ext cx="25146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770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048120"/>
            <a:ext cx="25146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492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343400"/>
            <a:ext cx="25146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498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715000"/>
            <a:ext cx="25146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820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676520"/>
            <a:ext cx="5029200" cy="114300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Хр. Колум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895480"/>
            <a:ext cx="5029200" cy="114300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Лазарев 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191120"/>
            <a:ext cx="5029200" cy="114300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ж. К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5486400"/>
            <a:ext cx="5029200" cy="114300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2209680"/>
            <a:ext cx="1066680" cy="228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19520" y="2285640"/>
            <a:ext cx="1066680" cy="1219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724280"/>
            <a:ext cx="106668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3505320"/>
            <a:ext cx="1066680" cy="266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29520" y="0"/>
            <a:ext cx="10144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2443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АФРИКА – это сам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ЖАРК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МАТЕР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Картинка 1 из 451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295280"/>
            <a:ext cx="42354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Name</cp:lastModifiedBy>
  <dcterms:modified xsi:type="dcterms:W3CDTF">2008-11-19T12:21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